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4E70-0F69-4041-B5C2-E282881F3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D744-A402-43A9-9EB1-296E3CE9E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CDC3-2598-43E6-961C-F8F7FC962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A6A5-89D1-45F9-B264-472623134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D9BB-3514-4001-85F5-7331E0303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5F2B-6A86-4940-A547-4919C10CA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129C-9682-4246-95B7-FFA71F19D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3BD0-9B37-40F9-B269-B0935F930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193F-A292-4A92-9552-2A35BEA4B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B6FD-1744-4692-B93B-E294ADA3C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3439-1B80-4DA2-9119-70E3C13B6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FD60-D4AA-4CAC-8C37-D0AE2D2DD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EF545-1020-436B-B7BC-ED9FBFEB86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21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Bauhaus 93"/>
              </a:rPr>
              <a:t>Summer Unit Pla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uhaus 93"/>
              </a:rPr>
              <a:t>By: Karla Andrea Valde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N WILL YOU CONDUCT THIS ACTIVITY? IN THE SUMMER TIME WHERE CHILDREN DON’T HAVE CLASS? – OF COURSE NOT! :d THIS UNIT WILL JUST BE A PREPARATION FOR THEM FOR SUMMER. This unit will be implemented during the 4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grading peri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erlin Sans FB"/>
              </a:rPr>
              <a:t>What is your simple science experiment that you have plan to conduct that is related to summer? Is that the </a:t>
            </a:r>
            <a:r>
              <a:rPr b="0" lang="en-US" sz="1400" spc="-1" strike="noStrike">
                <a:solidFill>
                  <a:srgbClr val="000000"/>
                </a:solidFill>
                <a:latin typeface="Berlin Sans FB"/>
              </a:rPr>
              <a:t>Experiment: Water and Air Make Bubbles? How it is related to summer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erlin Sans FB"/>
              </a:rPr>
              <a:t>- YES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nce you include the stimulation of your students to act upon global warming issue, what activities you will do to stimulate them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Have a nature walk :D OR CONDUCT AND EXPERIMENT “ICE C AND SALT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unit plan is good and very vivid. It caters the 3 important domains that the student should lear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unit plan is very organize and is very fun and stimulating for children. The topic is very informative and the activities deals more about the importance of experiential learni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ggestio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activities are absolutely good and developmentally appropriate for the children. Children will do lots of things and so i think the teacher should choose the right effective assessment tools to assessed student’s capabilities if they have mastered the topic or no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Bauhaus 93"/>
              </a:rPr>
              <a:t>Unit Summar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1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Berlin Sans FB"/>
              </a:rPr>
              <a:t>Summer is the favorite season of most children. As summer approaches, we will be starting a unit on the season. Through this unit, the children will become more aware of summer weather, activities, food and clothing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uhaus 93"/>
              </a:rPr>
              <a:t>Goals for the Pup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lin Sans FB"/>
              </a:rPr>
              <a:t>Through this unit, the children will be more aware o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254240" indent="-28584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erlin Sans FB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lin Sans FB"/>
              </a:rPr>
              <a:t>Summer weather, concepts, activities for recreation, food and clot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254240" indent="-28584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erlin Sans FB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lin Sans FB"/>
              </a:rPr>
              <a:t>Global issue: global war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254240" indent="-28584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erlin Sans FB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lin Sans FB"/>
              </a:rPr>
              <a:t>Exhibit higher order thinking ski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Bauhaus 93"/>
              </a:rPr>
              <a:t>Teacher’s Goal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336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lin Sans FB"/>
              </a:rPr>
              <a:t>At the end of the unit, the teacher should have achieved the follow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2854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lin Sans FB"/>
              </a:rPr>
              <a:t>Highlight summer concep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2854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lin Sans FB"/>
              </a:rPr>
              <a:t>Make the students exhibit 2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Berlin Sans FB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Berlin Sans FB"/>
              </a:rPr>
              <a:t> century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2854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lin Sans FB"/>
              </a:rPr>
              <a:t>Inculcate moral values and let children make sound judg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2854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lin Sans FB"/>
              </a:rPr>
              <a:t>Stimulate students to act upon the global phenomenon; Global war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auhaus 93"/>
              </a:rPr>
              <a:t>The 21st century skills that the pupils will be exhibiting ar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erlin Sans FB"/>
              </a:rPr>
              <a:t>Curio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lin Sans FB"/>
              </a:rPr>
              <a:t>Conduct a simple science experiment related to sum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lin Sans FB"/>
              </a:rPr>
              <a:t>Identify and experience summer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erlin Sans FB"/>
              </a:rPr>
              <a:t>Effective Use of Real-World Too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lin Sans FB"/>
              </a:rPr>
              <a:t>Practice simple cooking skills (popsicle juice)</a:t>
            </a:r>
            <a:r>
              <a:rPr b="0" lang="en-US" sz="2800" spc="-1" strike="noStrike">
                <a:solidFill>
                  <a:srgbClr val="000000"/>
                </a:solidFill>
                <a:latin typeface="Berlin Sans FB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066320" y="380520"/>
            <a:ext cx="76201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auhaus 93"/>
              </a:rPr>
              <a:t>Higher Order Thinking and Sound Reaso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lin Sans FB"/>
              </a:rPr>
              <a:t>Participate in decision making and in planning for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erlin Sans FB"/>
              </a:rPr>
              <a:t>Global Awar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lin Sans FB"/>
              </a:rPr>
              <a:t>Be aware of the new summer trends around the wor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erlin Sans FB"/>
              </a:rPr>
              <a:t>Crea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lin Sans FB"/>
              </a:rPr>
              <a:t>Teaming and Collab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lin Sans FB"/>
              </a:rPr>
              <a:t>Collaborate with teacher in making the weblog projec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Bauhaus 93"/>
              </a:rPr>
              <a:t>Unit Objectives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lin Sans FB"/>
              </a:rPr>
              <a:t>Define sum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lin Sans FB"/>
              </a:rPr>
              <a:t>Name common activities done during sum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lin Sans FB"/>
              </a:rPr>
              <a:t>List the type of clothing people wear during sum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lin Sans FB"/>
              </a:rPr>
              <a:t>Sing summer-themed so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lin Sans FB"/>
              </a:rPr>
              <a:t>Show appreciation for summer and its wea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lin Sans FB"/>
              </a:rPr>
              <a:t>Make an inference about the experiment, “Water and Air Make Bubble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lin Sans FB"/>
              </a:rPr>
              <a:t>Make a fruit juice popsicle st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lin Sans FB"/>
              </a:rPr>
              <a:t>Participate in the culminating activity; picnic at the par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47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898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898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898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898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898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898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898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898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uhaus 93"/>
              </a:rPr>
              <a:t>CFQ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erlin Sans FB"/>
              </a:rPr>
              <a:t>Essential Question</a:t>
            </a:r>
            <a:r>
              <a:rPr b="0" lang="en-US" sz="2400" spc="-1" strike="noStrike">
                <a:solidFill>
                  <a:srgbClr val="000000"/>
                </a:solidFill>
                <a:latin typeface="Berlin Sans FB"/>
              </a:rPr>
              <a:t>: Why do things chang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erlin Sans FB"/>
              </a:rPr>
              <a:t>Unit Questions: </a:t>
            </a:r>
            <a:r>
              <a:rPr b="0" lang="en-US" sz="2400" spc="-1" strike="noStrike">
                <a:solidFill>
                  <a:srgbClr val="000000"/>
                </a:solidFill>
                <a:latin typeface="Berlin Sans FB"/>
              </a:rPr>
              <a:t>Why do seasons chang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erlin Sans FB"/>
              </a:rPr>
              <a:t>Content Questions</a:t>
            </a:r>
            <a:r>
              <a:rPr b="0" lang="en-US" sz="2400" spc="-1" strike="noStrike">
                <a:solidFill>
                  <a:srgbClr val="000000"/>
                </a:solidFill>
                <a:latin typeface="Berlin Sans FB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erlin Sans FB"/>
              </a:rPr>
              <a:t>What is summ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erlin Sans FB"/>
              </a:rPr>
              <a:t>Why do we need summ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erlin Sans FB"/>
              </a:rPr>
              <a:t>What happens during summ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erlin Sans FB"/>
              </a:rPr>
              <a:t>What clothes are appropriate for summ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erlin Sans FB"/>
              </a:rPr>
              <a:t>What are the different weathers of summ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erlin Sans FB"/>
              </a:rPr>
              <a:t>What activities can we do in summ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erlin Sans FB"/>
              </a:rPr>
              <a:t>How can we make fruit juice popsicle stick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erlin Sans FB"/>
              </a:rPr>
              <a:t>How is summer significant in our lives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uhaus 93"/>
              </a:rPr>
              <a:t>Expected Outpu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erlin Sans FB"/>
              </a:rPr>
              <a:t>Stud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erlin Sans FB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erlin Sans FB"/>
              </a:rPr>
              <a:t>Science Experiment: Water and Air Make Bub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erlin Sans FB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erlin Sans FB"/>
              </a:rPr>
              <a:t>Cooking: Popsicle sti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erlin Sans FB"/>
              </a:rPr>
              <a:t>Teac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erlin Sans FB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erlin Sans FB"/>
              </a:rPr>
              <a:t>Weblog- where parents can view their child’s activities and progress in school. Also, they can comment and suggest more activities, etc. which can build strong teacher-parent relationshi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8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6T13:40:20Z</dcterms:created>
  <dc:creator>Student's</dc:creator>
  <dc:description/>
  <dc:language>en-US</dc:language>
  <cp:lastModifiedBy>Student's</cp:lastModifiedBy>
  <dcterms:modified xsi:type="dcterms:W3CDTF">2011-01-13T14:40:58Z</dcterms:modified>
  <cp:revision>7</cp:revision>
  <dc:subject/>
  <dc:title>Summer Unit Plan</dc:title>
</cp:coreProperties>
</file>